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41AA5-888A-418E-A1D9-26FE20875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5BD6-B171-483E-88E7-C0411769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54BE8-BC7A-4F53-83F2-718A9E2AF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4395-048E-4D66-90A1-9CA3FCD4C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D1E6C-7838-40CF-9E01-B924ED0C9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3039D-5753-41A8-A7DB-DE6D59713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9CB61-C0DE-4DC9-BBFD-3F7E56300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486EE-DF06-453C-82FD-3427224FD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39A3E-349A-462B-B4CB-A7F224C44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D6835-072B-4D9F-A520-ACF4DFECA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B2800-D443-4306-8DB9-2FBB74C66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AA94C-CE7E-42D8-811D-DC46100D6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AF9C-96EC-4E28-AD5D-DB1232650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9EEE1-5729-4FC1-819A-C0B5AD04A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AC0AE-B44C-4087-B464-16453EA9C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71E66-A30D-45DA-8C0C-2C64706BE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E01B3-4E8D-401C-9C15-66804D0FD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3979-15F9-47DD-9F41-8490F79BF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D14A7-F46F-4719-8A11-434E7F9F2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51CC1-8A9B-4CE9-B4A4-20FBCC78E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E7C78-76EC-49CE-A32A-8F051767B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88EC-3CED-439C-8D14-9F6ECF530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4D14-95C5-4430-ADDD-3604405D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29BB-0E71-4A5D-9220-366F42A9A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C11C-E130-470D-AE57-4B52493AECE6}"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AE2D-3B3F-44C8-B735-14C5179C3DBA}"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0" lang="zh-CN" sz="1800" spc="-1" strike="noStrike">
                <a:solidFill>
                  <a:srgbClr val="ffcc00"/>
                </a:solidFill>
                <a:latin typeface="Arial"/>
              </a:rPr>
              <a:t>　</a:t>
            </a:r>
            <a:r>
              <a:rPr b="1" lang="zh-CN" sz="1200" spc="-1" strike="noStrike">
                <a:solidFill>
                  <a:srgbClr val="ffcc00"/>
                </a:solidFill>
                <a:latin typeface="Arial"/>
              </a:rPr>
              <a:t> </a:t>
            </a:r>
            <a:endParaRPr b="0" lang="en-US" sz="1200" spc="-1" strike="noStrike">
              <a:solidFill>
                <a:srgbClr val="ffcc00"/>
              </a:solidFill>
              <a:latin typeface="Arial"/>
            </a:endParaRPr>
          </a:p>
        </p:txBody>
      </p:sp>
      <p:sp>
        <p:nvSpPr>
          <p:cNvPr id="3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440" y="1827360"/>
            <a:ext cx="806292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a:t>
            </a:r>
            <a:r>
              <a:rPr b="1" lang="zh-CN" sz="4000" spc="-1" strike="noStrike">
                <a:solidFill>
                  <a:srgbClr val="ffffff"/>
                </a:solidFill>
                <a:latin typeface="Arial Black"/>
              </a:rPr>
              <a:t>高考状元学习方法</a:t>
            </a:r>
            <a:r>
              <a:rPr b="1" lang="zh-CN" sz="4000" spc="-1" strike="noStrike">
                <a:solidFill>
                  <a:srgbClr val="ffffff"/>
                </a:solidFill>
                <a:latin typeface="Arial Black"/>
              </a:rPr>
              <a:t>] </a:t>
            </a:r>
            <a:r>
              <a:rPr b="1" lang="zh-CN" sz="4000" spc="-1" strike="noStrike">
                <a:solidFill>
                  <a:srgbClr val="ffffff"/>
                </a:solidFill>
                <a:latin typeface="Arial Black"/>
              </a:rPr>
              <a:t>学会理性考试 </a:t>
            </a:r>
            <a:br>
              <a:rPr sz="4000"/>
            </a:br>
            <a:endParaRPr b="0" lang="en-US" sz="4000" spc="-1" strike="noStrike">
              <a:solidFill>
                <a:srgbClr val="ffffff"/>
              </a:solidFill>
              <a:latin typeface="Arial Black"/>
            </a:endParaRPr>
          </a:p>
        </p:txBody>
      </p:sp>
      <p:sp>
        <p:nvSpPr>
          <p:cNvPr id="3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cc00"/>
                </a:solidFill>
                <a:latin typeface="Arial Black"/>
              </a:rPr>
              <a:t>清华大学电子工程系</a:t>
            </a:r>
            <a:r>
              <a:rPr b="1" i="1" lang="zh-CN" sz="2800" spc="-1" strike="noStrike">
                <a:solidFill>
                  <a:srgbClr val="ffcc00"/>
                </a:solidFill>
                <a:latin typeface="Arial Black"/>
              </a:rPr>
              <a:t>01</a:t>
            </a:r>
            <a:r>
              <a:rPr b="1" i="1" lang="zh-CN" sz="2800" spc="-1" strike="noStrike">
                <a:solidFill>
                  <a:srgbClr val="ffcc00"/>
                </a:solidFill>
                <a:latin typeface="Arial Black"/>
              </a:rPr>
              <a:t>级的张景利同学（</a:t>
            </a:r>
            <a:r>
              <a:rPr b="1" i="1" lang="zh-CN" sz="2800" spc="-1" strike="noStrike">
                <a:solidFill>
                  <a:srgbClr val="ffcc00"/>
                </a:solidFill>
                <a:latin typeface="Arial Black"/>
              </a:rPr>
              <a:t>2001</a:t>
            </a:r>
            <a:r>
              <a:rPr b="1" i="1" lang="zh-CN" sz="2800" spc="-1" strike="noStrike">
                <a:solidFill>
                  <a:srgbClr val="ffcc00"/>
                </a:solidFill>
                <a:latin typeface="Arial Black"/>
              </a:rPr>
              <a:t>年山西省理科状元）为考生支招，讲解了理科综合科目的复习以及对理科生高考应该统筹把握的几个要点。</a:t>
            </a:r>
            <a:endParaRPr b="0" lang="en-US" sz="28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张景利认为：“理科综合的客观题部分基本能占到</a:t>
            </a:r>
            <a:r>
              <a:rPr b="1" lang="zh-CN" sz="3200" spc="-1" strike="noStrike">
                <a:solidFill>
                  <a:srgbClr val="ffcc00"/>
                </a:solidFill>
                <a:latin typeface="Arial Black"/>
              </a:rPr>
              <a:t>144</a:t>
            </a:r>
            <a:r>
              <a:rPr b="1" lang="zh-CN" sz="3200" spc="-1" strike="noStrike">
                <a:solidFill>
                  <a:srgbClr val="ffcc00"/>
                </a:solidFill>
                <a:latin typeface="Arial Black"/>
              </a:rPr>
              <a:t>分左右，每一道题</a:t>
            </a:r>
            <a:r>
              <a:rPr b="1" lang="zh-CN" sz="3200" spc="-1" strike="noStrike">
                <a:solidFill>
                  <a:srgbClr val="ffcc00"/>
                </a:solidFill>
                <a:latin typeface="Arial Black"/>
              </a:rPr>
              <a:t>6</a:t>
            </a:r>
            <a:r>
              <a:rPr b="1" lang="zh-CN" sz="3200" spc="-1" strike="noStrike">
                <a:solidFill>
                  <a:srgbClr val="ffcc00"/>
                </a:solidFill>
                <a:latin typeface="Arial Black"/>
              </a:rPr>
              <a:t>分。这样两道小题加起来的分数就是一道大题。所以你如果前面小题错的多的话，比大题出错还可怕，所以做前面就要细心些。考生一定要先判断自己对每种题型的把握能力，然后协调时间。”</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0" y="692280"/>
            <a:ext cx="9144000" cy="540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此外，张景利还提出了一个“理性考试”的概念，鼓励考生在理科综合考试中要做理性分析，同时学会放弃。所谓的“理性考试”就是：</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一，要注意题型的分析，做题时想想要考察的是哪个知识点，每道题都要有所总结，不能白做。</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二，考生在考前整理错题的同时，也要注意那些不出错的内容，不要因为注意力的转移而把强项变成力量弱项。</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三，根据自己平时的学习情况和模拟成绩，为自己设定可以达到的分数目标，并把这种目标落实到每一种题型。这种方式能提高考生的自信心。对于没把握做对的弱项题目，不妨学会放弃，以节省时间。</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50920" y="301320"/>
            <a:ext cx="82072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高考状元：敞开心扉，笑对沉浮</a:t>
            </a:r>
            <a:endParaRPr b="0" lang="en-US" sz="4400" spc="-1" strike="noStrike">
              <a:solidFill>
                <a:srgbClr val="ffffff"/>
              </a:solidFill>
              <a:latin typeface="Arial Black"/>
            </a:endParaRPr>
          </a:p>
        </p:txBody>
      </p:sp>
      <p:sp>
        <p:nvSpPr>
          <p:cNvPr id="35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高三的考试，多得如吃饭一样平常。在这么多的考试中，总难免会有考得好 与考得不好的时候。</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a:t>
            </a:r>
            <a:r>
              <a:rPr b="1" lang="zh-CN" sz="2400" spc="-1" strike="noStrike">
                <a:solidFill>
                  <a:srgbClr val="ffcc00"/>
                </a:solidFill>
                <a:latin typeface="Arial Black"/>
              </a:rPr>
              <a:t>考得好的时候没有问题，多多给自己一些鼓励。可是考得不好的时候，在心态上就会有变化了。有些同学可能会想，完了，要是高考也和这次一样考砸了怎么办？当然，出现这样的想法是很正常的，暂时的情绪低落也未必是件坏事，关键是怎么调整。</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a:t>
            </a:r>
            <a:r>
              <a:rPr b="1" lang="zh-CN" sz="2400" spc="-1" strike="noStrike">
                <a:solidFill>
                  <a:srgbClr val="ffcc00"/>
                </a:solidFill>
                <a:latin typeface="Arial Black"/>
              </a:rPr>
              <a:t>我出现这种情况时，一般会听听歌，看看电影，如果还是无法排解的话，就找家长、同学、老师聊聊天。很多事情憋在心里会成为负担，甚至是前进道路上的绊脚石。不要担心老师或家长会责怪你，所有人都是为你好，都想帮助你进步。只要自己能够敞开心扉，把烦恼都说出来，没有什么解决不了的问题。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高考状元经验谈离</a:t>
            </a:r>
            <a:r>
              <a:rPr b="0" lang="zh-CN" sz="2000" spc="-1" strike="noStrike">
                <a:solidFill>
                  <a:srgbClr val="ffffff"/>
                </a:solidFill>
                <a:latin typeface="Arial Black"/>
              </a:rPr>
              <a:t>2006</a:t>
            </a:r>
            <a:r>
              <a:rPr b="0" lang="zh-CN" sz="2000" spc="-1" strike="noStrike">
                <a:solidFill>
                  <a:srgbClr val="ffffff"/>
                </a:solidFill>
                <a:latin typeface="Arial Black"/>
              </a:rPr>
              <a:t>高考还有 </a:t>
            </a:r>
            <a:r>
              <a:rPr b="0" lang="zh-CN" sz="2000" spc="-1" strike="noStrike">
                <a:solidFill>
                  <a:srgbClr val="ffffff"/>
                </a:solidFill>
                <a:latin typeface="Arial Black"/>
              </a:rPr>
              <a:t>92</a:t>
            </a:r>
            <a:r>
              <a:rPr b="0" lang="zh-CN" sz="2000" spc="-1" strike="noStrike">
                <a:solidFill>
                  <a:srgbClr val="ffffff"/>
                </a:solidFill>
                <a:latin typeface="Arial Black"/>
              </a:rPr>
              <a:t>天</a:t>
            </a:r>
            <a:endParaRPr b="0" lang="en-US" sz="2000" spc="-1" strike="noStrike">
              <a:solidFill>
                <a:srgbClr val="ffffff"/>
              </a:solidFill>
              <a:latin typeface="Arial Black"/>
            </a:endParaRPr>
          </a:p>
        </p:txBody>
      </p:sp>
      <p:sp>
        <p:nvSpPr>
          <p:cNvPr id="359" name="PlaceHolder 2"/>
          <p:cNvSpPr>
            <a:spLocks noGrp="1"/>
          </p:cNvSpPr>
          <p:nvPr>
            <p:ph/>
          </p:nvPr>
        </p:nvSpPr>
        <p:spPr>
          <a:xfrm>
            <a:off x="0" y="1628280"/>
            <a:ext cx="91440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本期出场状元：</a:t>
            </a:r>
            <a:r>
              <a:rPr b="1" lang="zh-CN" sz="2400" spc="-1" strike="noStrike">
                <a:solidFill>
                  <a:srgbClr val="ffcc00"/>
                </a:solidFill>
                <a:latin typeface="Arial Black"/>
              </a:rPr>
              <a:t>2004</a:t>
            </a:r>
            <a:r>
              <a:rPr b="1" lang="zh-CN" sz="2400" spc="-1" strike="noStrike">
                <a:solidFill>
                  <a:srgbClr val="ffcc00"/>
                </a:solidFill>
                <a:latin typeface="Arial Black"/>
              </a:rPr>
              <a:t>年福建省高考文科状元 黄晨琦</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小档案：毕业于厦门外国语学校，现在就读于北京大学光华管理学院金融班。高考得分</a:t>
            </a:r>
            <a:r>
              <a:rPr b="1" lang="zh-CN" sz="2400" spc="-1" strike="noStrike">
                <a:solidFill>
                  <a:srgbClr val="ffcc00"/>
                </a:solidFill>
                <a:latin typeface="Arial Black"/>
              </a:rPr>
              <a:t>656</a:t>
            </a:r>
            <a:r>
              <a:rPr b="1" lang="zh-CN" sz="2400" spc="-1" strike="noStrike">
                <a:solidFill>
                  <a:srgbClr val="ffcc00"/>
                </a:solidFill>
                <a:latin typeface="Arial Black"/>
              </a:rPr>
              <a:t>分。各门复习都有技巧</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在人们的印象中，高考状元们除了努力勤奋，大多是依靠天资聪颖或者兴趣使然，然而黄晨琦却认为，自己虽然记忆力很好，但还是有一些薄弱的科目，对待这些科目，取胜靠的就是复习技巧。</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a:t>
            </a:r>
            <a:r>
              <a:rPr b="1" lang="zh-CN" sz="2400" spc="-1" strike="noStrike">
                <a:solidFill>
                  <a:srgbClr val="ffcc00"/>
                </a:solidFill>
                <a:latin typeface="Arial Black"/>
              </a:rPr>
              <a:t>数学：提高准确率</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数学一直是黄晨琦的头疼科目，他说，数学复习最关键的一点是冲刺阶段要做题并提高准确率。很多人把试卷从头到尾都做完，但是最后发现很多都错了，这样还不如只做完</a:t>
            </a:r>
            <a:r>
              <a:rPr b="1" lang="zh-CN" sz="2400" spc="-1" strike="noStrike">
                <a:solidFill>
                  <a:srgbClr val="ffcc00"/>
                </a:solidFill>
                <a:latin typeface="Arial Black"/>
              </a:rPr>
              <a:t>80%</a:t>
            </a:r>
            <a:r>
              <a:rPr b="1" lang="zh-CN" sz="2400" spc="-1" strike="noStrike">
                <a:solidFill>
                  <a:srgbClr val="ffcc00"/>
                </a:solidFill>
                <a:latin typeface="Arial Black"/>
              </a:rPr>
              <a:t>，但是保证每一道题都做对。</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179280" y="1197000"/>
            <a:ext cx="8964720" cy="489888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a:t>
            </a:r>
            <a:r>
              <a:rPr b="1" lang="zh-CN" sz="2400" spc="-1" strike="noStrike">
                <a:solidFill>
                  <a:srgbClr val="ffcc00"/>
                </a:solidFill>
                <a:latin typeface="Arial Black"/>
              </a:rPr>
              <a:t>语文：研究做题套路</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对于语文复习，黄晨琦说自己并没有看过太多中外名著，他的方法是看感兴趣的杂志和研究题目。他拿到一套题目以后，一般会自己先做一遍，然后拿着正确答案仔细分析做错的地方，多看正确答案，研究做题套路。在写作文时，设想一下阅卷老师会喜欢什么样的文章，再注意一下错字、病句等就可以了。</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a:t>
            </a:r>
            <a:r>
              <a:rPr b="1" lang="zh-CN" sz="2400" spc="-1" strike="noStrike">
                <a:solidFill>
                  <a:srgbClr val="ffcc00"/>
                </a:solidFill>
                <a:latin typeface="Arial Black"/>
              </a:rPr>
              <a:t>英语：多背单词</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黄晨琦认为英语在冲刺阶段的关键是多背单词。对于写作，最好是把前七到八年的试卷答案拿过来，把范文都背诵得非常流利。实在不行可以先写中文，然后翻译。此外，英语比较有效的学习方法是多听多看原版英语电影、书籍和歌曲。</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　　此外，他建议高三的学生不要熬夜或者透支精力。在临近高考的一周，要注意开始调节自己的生物钟，把时间表调节到和高考时间表同步。</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61" name=""/>
          <p:cNvSpPr/>
          <p:nvPr/>
        </p:nvSpPr>
        <p:spPr>
          <a:xfrm>
            <a:off x="179280" y="0"/>
            <a:ext cx="7772400" cy="14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高考状元经验谈 </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08:48:0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14:19Z</dcterms:modified>
  <cp:revision>6</cp:revision>
  <dc:subject>主题班会课件(分28大类): http://shop62905894.taobao.com</dc:subject>
  <dc:title>主题班会课件(分28大类): http://shop62905894.taobao.com</dc:title>
</cp:coreProperties>
</file>